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12B-3C11-43C7-991B-28EFAA53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A0E-C512-455B-A896-CADA8442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6BE-BD5E-45E1-809D-7F3AB7C3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A54-7C61-4502-B5F8-C988307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CD3D-459A-42C9-86AD-FD8652F6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45D-3358-4FDD-9D61-33EA000E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E6C2-EC0A-4A5B-A70E-0C71FF46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B109-AE94-41AB-A7D5-2458CBF6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5FF9-89E6-4796-89A6-745BF642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2291-C4A8-4E83-9F25-53C6DE39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0B6C-1B86-4F2E-85FC-670ABBB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767-9201-4B91-95F7-3363D90A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3EFC-2FE3-4F05-8BC7-FEE36C4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91F4-0FC3-46ED-A8EE-D29019D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57D3-0A51-4173-BD05-74C2E62C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03A4-67E1-4D5C-9322-FA7ABED2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3D0D-EA08-42B5-A7B1-AB1411C6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F57-24CB-4EE4-A470-7CB7396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923-D050-4026-9C74-4F9993ED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8F7-B559-498D-9CCB-25E2224C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601-14F3-40AE-9394-BC9980D3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C8C-3A28-45DA-AE0E-E118DDB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96E-C687-490A-9A2F-D3A1F02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2BA-5BD7-4A00-8F0F-F5FB1D35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296A-3E32-4F3A-8FD7-1826427305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7B9E-26F3-4624-9706-62B1595182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nbdoe</cp:lastModifiedBy>
  <dcterms:modified xsi:type="dcterms:W3CDTF">2008-02-18T20:43:06Z</dcterms:modified>
  <cp:revision>11</cp:revision>
  <dc:subject/>
  <dc:title>Chapter 2 “Cells” Section 1: “Cell Structure Pages 38 – 40</dc:title>
</cp:coreProperties>
</file>